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FF0-5C36-45A3-A561-7F5917CF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BA2-A982-4FA6-94FE-BEC7F4D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E7F-D113-4D48-A4B5-2DD6499F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8B2-4EAE-4F94-808F-76AD31EA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7E1FD-91BA-4095-8012-A53C6BC3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1A72-B26B-46E9-B594-7D2059B9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50373-E35C-4106-B5A1-5CD30D2B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DDD1A-9EE3-453E-8A4D-D982365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801D-C4ED-4639-B4E7-C9A2620A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86A91-5A21-4CC4-A9C2-C679BC0A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68DB-8003-4E43-BA78-1E0C040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7E1-81C9-48C4-B026-08D555F6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158F3-74E8-4606-BE61-C13E6F2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1231-2B89-43C0-A6EB-3EB1AC25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2F008-A970-4CC5-B6BD-AF924560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7205B-8413-4609-81BA-349DCF64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F9C99-AC83-420A-8E14-AD674E3E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E57-FBF3-4173-80ED-B74057FF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7E4-2D13-4CAE-9555-3981FE6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9F0-4F3B-4E87-A98F-14EAB67C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374-17F7-4D4B-B1B9-4C2447B2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FD9-849B-44AE-A845-76D76B6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331-5D2D-4A7C-9169-B5320E7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95E-39DC-428D-854E-03B87E6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D6E-2D83-4806-B96A-372C70516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1B3-5573-467C-B659-731502FE73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The Galapagos Island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ess than 1 mile off the coast of Eq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islands are close together habitat is very different on e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resource for comparing Darwin’s new ob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estion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the variety of species found on each island once belonged to the same spec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a00"/>
                </a:solidFill>
                <a:latin typeface="Arial"/>
              </a:rPr>
              <a:t>15-2: Other Idea’s That Shaped Darwin’s Thinking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ing Idea’s about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mes Hutton, 178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rth is not just 10000 years ol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has changed shape through geological forces taking place over extremely long periods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is millions of years old.  (How old do we believe Earth to be 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les Lyell, 183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ot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nciples of Geolog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arwin read his book while on the Beagle.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that changed the Earth in the past are still happening now. –Earth is still chang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eruptions, earthquakes, erosion, floo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n-Baptiste Lamarck, 18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to recognize that living things have changed over time.  He published his ideas the year Darwin was bo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s had an innate tendency to become more complex and per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s could continually acquire or lose characteristics to help them live more success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s could pass desired traits on to offsp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ark’s idea had many faults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Lamark paved the way for the work of later biologists his idea was incorrect.  What was wrong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mas Malthus, 1798, an econom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d that birthrate exceeded death rate= population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uman population continued to grow we would run out of food and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forces that kept such growth in check: war, famine, disease, natural disa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win thought his idea was easier to aplly to animals and plants tha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16:48Z</dcterms:created>
  <dc:creator>Brian and Megan Gallagher</dc:creator>
  <dc:description/>
  <dc:language>en-US</dc:language>
  <cp:lastModifiedBy>udsd</cp:lastModifiedBy>
  <dcterms:modified xsi:type="dcterms:W3CDTF">2010-05-25T18:27:26Z</dcterms:modified>
  <cp:revision>6</cp:revision>
  <dc:subject/>
  <dc:title>Darwin’s TheEvolution</dc:title>
</cp:coreProperties>
</file>